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A13-2DA9-45D0-9472-4D925C3E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8CC-1188-4298-A17D-EA82E415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6FB-452A-4382-8DEE-6F428BBC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B09-2A21-43F9-8514-49134684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886-2629-4B12-8CE6-166210E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D5A-D67E-437F-A05A-9BC0D2ED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0B4-8A5D-47E7-94FE-1B7DED01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31D-D006-4805-BFB5-9CFFB14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360-0570-41F7-B9F4-6965ACB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0D2-57A6-45A8-AA30-E3660BA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679-59CA-4816-AC8A-EC17243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AB6-2086-4C5B-8541-C8A3DB7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2738-C38D-485F-8CF3-CFA380D37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&amp;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ies &amp;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n eukaryotes &amp; prokaryotes but not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location, enzymes, speed, promoter sequence, termination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throughou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type of RNA polymeras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types of RNA polymerase, depends on type of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less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more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s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osttranscriptional mod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transcriptional modifications (5’ cap, polyA tail,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r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ns &amp; ex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imilar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ibosomes can translate mRNA at the same tim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ibosome encounters STOP codon, release factor binds to A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cap involved in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can occur at same time (and location) as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n nucleus; translation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5:21:29Z</dcterms:created>
  <dc:creator>rubina khan</dc:creator>
  <dc:description/>
  <dc:language>en-US</dc:language>
  <cp:lastModifiedBy>rubina khan</cp:lastModifiedBy>
  <dcterms:modified xsi:type="dcterms:W3CDTF">2012-11-27T05:42:57Z</dcterms:modified>
  <cp:revision>23</cp:revision>
  <dc:subject/>
  <dc:title>Eukaryotes &amp; Prokaryotes</dc:title>
</cp:coreProperties>
</file>